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emical structure of TRPV1 ligan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Bar graph of mean EC50 values of RTX and IC50 values of I-RTX (± S.E.M.). a, the introduction of the leucine residue in place of the methionine at residue 547 in human TRPV1 significantly increases the potency of RTX (n = 4-6). b, the introduction of the leucine residue at position 547 in human TRPV1 increases the potency of I-RTX compared with wild type when challenging the cells with an application of 500 nM capsaicin (n = 3-6). c, a typical current trace showing 3 nM I-RTX inhibits the 500 nM capsaicin response by less than 50% at the wild-type human TRPV1 receptor. The black bar indicates capsaicin application. The voltage protocol is illustrated below the trace indicating when voltage ramps from -80 to +80 mV (0.5 mV/s-1) were applied to the cell. d, a typical current trace showing 3 nM I-RTX inhibits the 500 nM capsaicin response by more than 90% at the L547M human TRPV1 recept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and b, concentration responses of capsaicin-dependent activation of WT and mutant TRPV1 receptors (mean ± S.E.M., n = 4-10). Currents were normalized to the maximum capsaicin response (30 μM), and the EC50 value was determined from a fit of the data (solid li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radioligand binding studies carried out using tritiated compound A show the differences in binding affinity of the compound between rat and human TRPV1 and their respective mutants. Data were analyzed by nonlinear regression analysis and fit to sigmoidal dose-response curves to derive Kd and Bmax values. Kd values for low-affinity binding to the human L547M mutant and rat WT constructs were determined by extrapolating curves to the Bmax values that were derived from binding to human WT and rat M547L mutant constructs, respectively. Specific binding is presented as a percentage of the appropriate Bmax value. The graph presented shows representative data from n = 3 independent determinations. b and c, bar graph showing the mean potency of compound A for various TRPV1 constructs ± S.E.M. values when tested against capsaicin or pH 5.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current trace showing intrinsic activity of I-RTX detected as an increase in outward current in response to a voltage ramp (-80 to +80 mV, 0.3 mV/ms). Increasing concentrations of I-RTX caused a dose-dependent increase in the outward current. Acidification with pH 5.8 increased the potency of I-RTX as an agonist. The black bars indicate the application of pH 5.8 in the absence or presence of I-RTX. b, concentration response of I-RTX-dependent activation of S512Y (mean ± S.E.M., n = 4-6). Currents were normalized to the inward pH 5.8 response, and the EC50 value was determined from a fit of the data (solid line). c, I-RTX-dependent activation of S512Y in the presence of pH 5.8 (mean ± S.E.M., n = 4-6). Responses were calculated as the percentage increase in pH 5.8 response, and the EC50 value was determined from a fit of the data (solid l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Functional Mapping of the Transient Receptor Potential Vanilloid 1 Intracellular Binding Sit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Daniel M. Johnson, Elizabeth M. Garrett, Richard Rutter, Timothy P. Bonnert, Ying-Duo Gao, Richard E. Middleton, and Kathy G. Sutto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ol Pharmac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70(3):1005-101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ugust 21, 2006</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6678720" y="6411960"/>
            <a:ext cx="2922480" cy="903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emical structure of TRPV1 ligands.</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6678720" y="6411960"/>
            <a:ext cx="2922480" cy="903240"/>
          </a:xfrm>
          <a:prstGeom prst="rect">
            <a:avLst/>
          </a:prstGeom>
          <a:ln w="0">
            <a:noFill/>
          </a:ln>
        </p:spPr>
      </p:pic>
      <p:pic>
        <p:nvPicPr>
          <p:cNvPr id="48" name="" descr=""/>
          <p:cNvPicPr/>
          <p:nvPr/>
        </p:nvPicPr>
        <p:blipFill>
          <a:blip r:embed="rId2"/>
          <a:stretch/>
        </p:blipFill>
        <p:spPr>
          <a:xfrm>
            <a:off x="739800" y="1909800"/>
            <a:ext cx="8604360" cy="373392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niel M. Johnson et al. Mol Pharmacol 2006;70:1005-101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158112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Bar graph of mean EC50 values of RTX and IC50 values of I-RTX (± S.E.M.). a, the introduction of the leucine residue in place of the methionine at residue 547 in human TRPV1 significantly increases the potency of RTX (n = 4-6). b, the introduction of the leucine residue at position 547 in human TRPV1 increases the potency of I-RTX compared with wild type when challenging the cells with an application of 500 nM capsaicin (n = 3-6). c, a typical current trace showing 3 nM I-RTX inhibits the 500 nM capsaicin response by less than 50% at the wild-type human TRPV1 receptor.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6678720" y="6411960"/>
            <a:ext cx="2922480" cy="903240"/>
          </a:xfrm>
          <a:prstGeom prst="rect">
            <a:avLst/>
          </a:prstGeom>
          <a:ln w="0">
            <a:noFill/>
          </a:ln>
        </p:spPr>
      </p:pic>
      <p:pic>
        <p:nvPicPr>
          <p:cNvPr id="53" name="" descr=""/>
          <p:cNvPicPr/>
          <p:nvPr/>
        </p:nvPicPr>
        <p:blipFill>
          <a:blip r:embed="rId2"/>
          <a:stretch/>
        </p:blipFill>
        <p:spPr>
          <a:xfrm>
            <a:off x="1716120" y="1079640"/>
            <a:ext cx="6651720" cy="5394240"/>
          </a:xfrm>
          <a:prstGeom prst="rect">
            <a:avLst/>
          </a:prstGeom>
          <a:ln w="0">
            <a:noFill/>
          </a:ln>
        </p:spPr>
      </p:pic>
      <p:sp>
        <p:nvSpPr>
          <p:cNvPr id="54" name=""/>
          <p:cNvSpPr/>
          <p:nvPr/>
        </p:nvSpPr>
        <p:spPr>
          <a:xfrm>
            <a:off x="1716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niel M. Johnson et al. Mol Pharmacol 2006;70:1005-101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and b, concentration responses of capsaicin-dependent activation of WT and mutant TRPV1 receptors (mean ± S.E.M., n = 4-10).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6678720" y="6411960"/>
            <a:ext cx="2922480" cy="903240"/>
          </a:xfrm>
          <a:prstGeom prst="rect">
            <a:avLst/>
          </a:prstGeom>
          <a:ln w="0">
            <a:noFill/>
          </a:ln>
        </p:spPr>
      </p:pic>
      <p:pic>
        <p:nvPicPr>
          <p:cNvPr id="58" name="" descr=""/>
          <p:cNvPicPr/>
          <p:nvPr/>
        </p:nvPicPr>
        <p:blipFill>
          <a:blip r:embed="rId2"/>
          <a:stretch/>
        </p:blipFill>
        <p:spPr>
          <a:xfrm>
            <a:off x="3129120" y="1079640"/>
            <a:ext cx="3827160" cy="5394240"/>
          </a:xfrm>
          <a:prstGeom prst="rect">
            <a:avLst/>
          </a:prstGeom>
          <a:ln w="0">
            <a:noFill/>
          </a:ln>
        </p:spPr>
      </p:pic>
      <p:sp>
        <p:nvSpPr>
          <p:cNvPr id="59" name=""/>
          <p:cNvSpPr/>
          <p:nvPr/>
        </p:nvSpPr>
        <p:spPr>
          <a:xfrm>
            <a:off x="312912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niel M. Johnson et al. Mol Pharmacol 2006;70:1005-1012</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radioligand binding studies carried out using tritiated compound A show the differences in binding affinity of the compound between rat and human TRPV1 and their respective mutant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6678720" y="6411960"/>
            <a:ext cx="2922480" cy="903240"/>
          </a:xfrm>
          <a:prstGeom prst="rect">
            <a:avLst/>
          </a:prstGeom>
          <a:ln w="0">
            <a:noFill/>
          </a:ln>
        </p:spPr>
      </p:pic>
      <p:pic>
        <p:nvPicPr>
          <p:cNvPr id="63" name="" descr=""/>
          <p:cNvPicPr/>
          <p:nvPr/>
        </p:nvPicPr>
        <p:blipFill>
          <a:blip r:embed="rId2"/>
          <a:stretch/>
        </p:blipFill>
        <p:spPr>
          <a:xfrm>
            <a:off x="1957320" y="1079640"/>
            <a:ext cx="6168960" cy="5394240"/>
          </a:xfrm>
          <a:prstGeom prst="rect">
            <a:avLst/>
          </a:prstGeom>
          <a:ln w="0">
            <a:noFill/>
          </a:ln>
        </p:spPr>
      </p:pic>
      <p:sp>
        <p:nvSpPr>
          <p:cNvPr id="64" name=""/>
          <p:cNvSpPr/>
          <p:nvPr/>
        </p:nvSpPr>
        <p:spPr>
          <a:xfrm>
            <a:off x="1957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niel M. Johnson et al. Mol Pharmacol 2006;70:1005-1012</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current trace showing intrinsic activity of I-RTX detected as an increase in outward current in response to a voltage ramp (-80 to +80 mV, 0.3 mV/m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6678720" y="6411960"/>
            <a:ext cx="2922480" cy="903240"/>
          </a:xfrm>
          <a:prstGeom prst="rect">
            <a:avLst/>
          </a:prstGeom>
          <a:ln w="0">
            <a:noFill/>
          </a:ln>
        </p:spPr>
      </p:pic>
      <p:pic>
        <p:nvPicPr>
          <p:cNvPr id="68" name="" descr=""/>
          <p:cNvPicPr/>
          <p:nvPr/>
        </p:nvPicPr>
        <p:blipFill>
          <a:blip r:embed="rId2"/>
          <a:stretch/>
        </p:blipFill>
        <p:spPr>
          <a:xfrm>
            <a:off x="1527120" y="1079640"/>
            <a:ext cx="7032600" cy="5394240"/>
          </a:xfrm>
          <a:prstGeom prst="rect">
            <a:avLst/>
          </a:prstGeom>
          <a:ln w="0">
            <a:noFill/>
          </a:ln>
        </p:spPr>
      </p:pic>
      <p:sp>
        <p:nvSpPr>
          <p:cNvPr id="69" name=""/>
          <p:cNvSpPr/>
          <p:nvPr/>
        </p:nvSpPr>
        <p:spPr>
          <a:xfrm>
            <a:off x="1527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niel M. Johnson et al. Mol Pharmacol 2006;70:1005-1012</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